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4141-5CA0-491F-A054-BA6B3A01D1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8C30-86A0-4FDF-BABF-EE77CF1E78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B9B6-77EF-47CE-9D22-6E70F679DD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005A-6432-4E99-926B-4B64522FE2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7D16-501C-428A-A95D-4A97DB0079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6BC7-4C91-42AD-AB6D-B504ABBF56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92E1-2D08-4140-BC40-04FC0FFF93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458E-BE13-4DB8-9F57-292D574121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0EA0-0F5A-4C84-9FFD-3AA40F275A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DBEE-D1ED-41E4-97BD-DD6B8A876F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DB72-2017-4D86-8855-4B9E957148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DBC-6859-4785-AE5A-4FC306BA3D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7E2E-48DB-46F8-922E-AFF424295F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2579-43B0-4B7D-97AB-4057628082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E332-F096-4340-A963-ED94FF91A9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13AF-8D00-41F5-91CB-6B60CB507D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B1C9-7B3F-459F-B349-791D896A90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AEFF-0931-4455-9081-853190D307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8645-3E16-4B8A-B272-7A417159A4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8BD1-742E-479D-9311-8393E2D86C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2532-3DDE-47CB-B14D-7F55CF62C9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694F-F47F-4E93-9972-06F60791F5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865F-4F4B-464E-A470-ADB3529523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982B-6317-4D77-9323-90B541234B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846D-A195-4EE5-8C44-440472A1F0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6629-46EB-4FF3-8C6C-2AD3F162BE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22A5-3076-4940-87EF-CDE3FAEAB7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AD66-5C32-45C7-9F8A-58373D2344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0177-3177-4393-BA6F-D9821ADDE2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112A-2C47-42F1-A3C9-DC028DAE6F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9B0F-3861-4F2F-9226-DF1C0082D2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B6B6-9F64-4F7A-A1D7-90237FADED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78AD-F12A-4F14-9EAD-AFDD61F9A1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354D-AFCE-44CC-86EF-DF42853AE2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3398-C5FF-4B3C-94F8-A50B13F594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976B-314D-475A-8CD8-A5238BEC2E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AC4F-CE5B-4FC0-AAD8-CC364B2FF2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C60F-B88A-4E60-96F1-31220CFC7B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6B2E-4308-49C7-A47C-80D2AB6B72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3A32-D16C-4E59-91E0-2826C0C201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1B7B-32B1-4CD2-87C2-4DC2E10C27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F527-8287-47DD-94FF-52026CC5CA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71C9-4B78-4BC5-8AF4-7F5DCB2577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D517-8BAD-4E5D-9391-DA0ECDFDE6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1899-6AED-4E7B-B241-B628495209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871A-170D-463A-ABF2-1FF7B90DB1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ED35-1A6E-46C9-A69C-E1239C849D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E71E-7C32-4C18-88F7-B077EFA4F3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BB32-EED5-40BB-B0EC-0517696C2C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E7D5-3FC6-428C-80AA-F0CA5FFD79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6552-9F30-4D14-A3EE-71BF0A8150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2F27-AC89-4625-89F4-61C1595507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E4D8-57C5-4480-909E-FD933C2BA8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3605-A6E6-4379-923C-BADDC3FDAF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71CC-2D07-453F-8DCF-9D5CD9E822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1C4-72FA-4C0A-BF65-78B7170BA8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B524-23A7-438C-8B80-D3D97A0B8F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>
            <a:hlinkClick r:id="" action="ppaction://hlinkshowjump?jump=previousslide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8">
            <a:hlinkClick r:id="" action="ppaction://hlinkshowjump?jump=firstslide"/>
          </p:cNvPr>
          <p:cNvSpPr/>
          <p:nvPr/>
        </p:nvSpPr>
        <p:spPr>
          <a:xfrm>
            <a:off x="5824440" y="6108840"/>
            <a:ext cx="17431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9">
            <a:hlinkClick r:id="" action="ppaction://hlinkshowjump?jump=nextslide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20">
            <a:hlinkClick r:id="" action="ppaction://hlinkshowjump?jump=endshow"/>
          </p:cNvPr>
          <p:cNvSpPr/>
          <p:nvPr/>
        </p:nvSpPr>
        <p:spPr>
          <a:xfrm>
            <a:off x="7658280" y="6105600"/>
            <a:ext cx="1231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Rectangle 16">
            <a:hlinkClick r:id="" action="ppaction://hlinkshowjump?jump=previousslide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17">
            <a:hlinkClick r:id="" action="ppaction://hlinkshowjump?jump=firstslide"/>
          </p:cNvPr>
          <p:cNvSpPr/>
          <p:nvPr/>
        </p:nvSpPr>
        <p:spPr>
          <a:xfrm>
            <a:off x="5824440" y="6108840"/>
            <a:ext cx="17431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18">
            <a:hlinkClick r:id="" action="ppaction://hlinkshowjump?jump=nextslide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9">
            <a:hlinkClick r:id="" action="ppaction://hlinkshowjump?jump=endshow"/>
          </p:cNvPr>
          <p:cNvSpPr/>
          <p:nvPr/>
        </p:nvSpPr>
        <p:spPr>
          <a:xfrm>
            <a:off x="7658280" y="6105600"/>
            <a:ext cx="1231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5.xml"/><Relationship Id="rId6" Type="http://schemas.openxmlformats.org/officeDocument/2006/relationships/slide" Target="slide34.xml"/><Relationship Id="rId7" Type="http://schemas.openxmlformats.org/officeDocument/2006/relationships/slide" Target="slide44.xml"/><Relationship Id="rId8" Type="http://schemas.openxmlformats.org/officeDocument/2006/relationships/slide" Target="slide52.xml"/><Relationship Id="rId9" Type="http://schemas.openxmlformats.org/officeDocument/2006/relationships/slide" Target="slide54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8.xm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slide" Target="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10.png"/><Relationship Id="rId5" Type="http://schemas.openxmlformats.org/officeDocument/2006/relationships/slide" Target="slide8.xml"/><Relationship Id="rId6" Type="http://schemas.openxmlformats.org/officeDocument/2006/relationships/image" Target="../media/image6.png"/><Relationship Id="rId7" Type="http://schemas.openxmlformats.org/officeDocument/2006/relationships/slide" Target="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546120" y="1089000"/>
            <a:ext cx="79502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y are commas importan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Items in a s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Compound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Interrup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Introductory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7" action="ppaction://hlinksldjump"/>
              </a:rPr>
              <a:t>Conventional uses of com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8" action="ppaction://hlinksldjump"/>
              </a:rPr>
              <a:t>Review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9" action="ppaction://hlinksldjump"/>
              </a:rPr>
              <a:t>Review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Using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4"/>
          <p:cNvSpPr/>
          <p:nvPr/>
        </p:nvSpPr>
        <p:spPr>
          <a:xfrm>
            <a:off x="509760" y="2208240"/>
            <a:ext cx="704340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is project is fun easy fast and inexpensi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3073320" y="230184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/>
          <p:cNvSpPr/>
          <p:nvPr/>
        </p:nvSpPr>
        <p:spPr>
          <a:xfrm flipH="1">
            <a:off x="7209720" y="230184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463920" y="21272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528480" y="1297080"/>
            <a:ext cx="8069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1"/>
          <p:cNvSpPr/>
          <p:nvPr/>
        </p:nvSpPr>
        <p:spPr>
          <a:xfrm>
            <a:off x="4861080" y="2135160"/>
            <a:ext cx="26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208400" y="21286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509760" y="2938320"/>
            <a:ext cx="7037280" cy="4748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commas to separate words in a ser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8"/>
          <p:cNvSpPr/>
          <p:nvPr/>
        </p:nvSpPr>
        <p:spPr>
          <a:xfrm>
            <a:off x="533520" y="227484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finished my dinner brushed my teeth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ombed my hair and ran out the do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1270080" y="239868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14"/>
          <p:cNvSpPr/>
          <p:nvPr/>
        </p:nvSpPr>
        <p:spPr>
          <a:xfrm flipH="1">
            <a:off x="6255720" y="2717640"/>
            <a:ext cx="135000" cy="33048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780000" y="221292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528480" y="1297080"/>
            <a:ext cx="8069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33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37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6408720" y="2184480"/>
            <a:ext cx="26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3232080" y="25192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1"/>
          <p:cNvSpPr/>
          <p:nvPr/>
        </p:nvSpPr>
        <p:spPr>
          <a:xfrm>
            <a:off x="533520" y="3330720"/>
            <a:ext cx="7037280" cy="4744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commas to separate phrases in a ser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1"/>
          <p:cNvSpPr/>
          <p:nvPr/>
        </p:nvSpPr>
        <p:spPr>
          <a:xfrm>
            <a:off x="509760" y="2276640"/>
            <a:ext cx="7075440" cy="51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old diary had ragged yellowed p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528480" y="1297080"/>
            <a:ext cx="8069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27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0"/>
          <p:cNvSpPr/>
          <p:nvPr/>
        </p:nvSpPr>
        <p:spPr>
          <a:xfrm>
            <a:off x="3587760" y="239400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13"/>
          <p:cNvSpPr/>
          <p:nvPr/>
        </p:nvSpPr>
        <p:spPr>
          <a:xfrm flipH="1">
            <a:off x="5860440" y="236232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467240" y="22496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AutoShape 30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509760" y="2944800"/>
            <a:ext cx="7061040" cy="8222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commas to separate two or more adjectives that come before a nou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0"/>
          <p:cNvSpPr/>
          <p:nvPr/>
        </p:nvSpPr>
        <p:spPr>
          <a:xfrm>
            <a:off x="523800" y="2225520"/>
            <a:ext cx="703908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chose the gift Mike wrapped it and Gina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gave it to Kel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1019160" y="230184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12"/>
          <p:cNvSpPr/>
          <p:nvPr/>
        </p:nvSpPr>
        <p:spPr>
          <a:xfrm flipH="1">
            <a:off x="3231360" y="266544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3132000" y="2168640"/>
            <a:ext cx="43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5388120" y="21718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28480" y="1297080"/>
            <a:ext cx="8069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6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9">
            <a:hlinkClick r:id="rId3" action="ppaction://hlinksldjump"/>
          </p:cNvPr>
          <p:cNvSpPr/>
          <p:nvPr/>
        </p:nvSpPr>
        <p:spPr>
          <a:xfrm>
            <a:off x="3009960" y="604368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509760" y="3232080"/>
            <a:ext cx="7061040" cy="8222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commas to separate short independent claus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71680" y="99072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28480" y="1398600"/>
            <a:ext cx="7824960" cy="38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fluffy kitten with the brown white and black spots is my favori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For lunch we had milk tuna sandwiches and pe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searched for the book in my locker at my house and in my mother’s c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t the beach we swam flew kites and built sand cast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2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5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6">
            <a:hlinkClick r:id="rId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1"/>
          <p:cNvSpPr/>
          <p:nvPr/>
        </p:nvSpPr>
        <p:spPr>
          <a:xfrm>
            <a:off x="533520" y="981000"/>
            <a:ext cx="15048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528480" y="1398600"/>
            <a:ext cx="7824960" cy="38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fluffy kitten with the brown white and black spots is my favori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For lunch we had milk tuna sandwiches and pe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searched for the book in my locker at my house and in my mother’s c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t the beach we swam flew kites and built sand cast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571680" y="9907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6084720" y="358128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964640" y="355752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4060800" y="30510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6492960" y="30639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403960" y="222552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6" descr=""/>
          <p:cNvPicPr/>
          <p:nvPr/>
        </p:nvPicPr>
        <p:blipFill>
          <a:blip r:embed="rId2"/>
          <a:stretch/>
        </p:blipFill>
        <p:spPr>
          <a:xfrm>
            <a:off x="8515440" y="26114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7" descr=""/>
          <p:cNvPicPr/>
          <p:nvPr/>
        </p:nvPicPr>
        <p:blipFill>
          <a:blip r:embed="rId3"/>
          <a:stretch/>
        </p:blipFill>
        <p:spPr>
          <a:xfrm>
            <a:off x="8515440" y="32623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0" descr=""/>
          <p:cNvPicPr/>
          <p:nvPr/>
        </p:nvPicPr>
        <p:blipFill>
          <a:blip r:embed="rId4"/>
          <a:stretch/>
        </p:blipFill>
        <p:spPr>
          <a:xfrm>
            <a:off x="8515440" y="4035600"/>
            <a:ext cx="133200" cy="885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1"/>
          <p:cNvSpPr/>
          <p:nvPr/>
        </p:nvSpPr>
        <p:spPr>
          <a:xfrm>
            <a:off x="6275520" y="22082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4176720" y="44038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5597640" y="43848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9" descr="5081106-1602x2400"/>
          <p:cNvPicPr/>
          <p:nvPr/>
        </p:nvPicPr>
        <p:blipFill>
          <a:blip r:embed="rId2"/>
          <a:srcRect l="3322" t="3838" r="0" b="0"/>
          <a:stretch/>
        </p:blipFill>
        <p:spPr>
          <a:xfrm>
            <a:off x="3670200" y="4697280"/>
            <a:ext cx="1801800" cy="11937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4"/>
          <p:cNvSpPr/>
          <p:nvPr/>
        </p:nvSpPr>
        <p:spPr>
          <a:xfrm>
            <a:off x="520560" y="4154400"/>
            <a:ext cx="7867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 dog barke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threw the b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20560" y="4148280"/>
            <a:ext cx="7867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 dog barked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so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threw the b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41"/>
          <p:cNvSpPr/>
          <p:nvPr/>
        </p:nvSpPr>
        <p:spPr>
          <a:xfrm>
            <a:off x="530280" y="3225960"/>
            <a:ext cx="7818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Josie’s mother said she could go to the movi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r father said she had to stay ho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533520" y="2549520"/>
            <a:ext cx="7819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am very tired. My sister is sleepy to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528480" y="1163520"/>
            <a:ext cx="8069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a comma before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nd, but, for, nor, or, so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ye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when it joins independent clauses in a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compound sentence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7" descr=""/>
          <p:cNvPicPr/>
          <p:nvPr/>
        </p:nvPicPr>
        <p:blipFill>
          <a:blip r:embed="rId4"/>
          <a:stretch/>
        </p:blipFill>
        <p:spPr>
          <a:xfrm>
            <a:off x="8486640" y="2874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9080" y="6167520"/>
            <a:ext cx="590400" cy="3394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9"/>
          <p:cNvSpPr/>
          <p:nvPr/>
        </p:nvSpPr>
        <p:spPr>
          <a:xfrm>
            <a:off x="533520" y="2536920"/>
            <a:ext cx="7819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am very tired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my sister is sleepy to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523800" y="3219480"/>
            <a:ext cx="7818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Josie’s mother said she could go to the movie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but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r father said she had to stay ho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32" descr=""/>
          <p:cNvPicPr/>
          <p:nvPr/>
        </p:nvPicPr>
        <p:blipFill>
          <a:blip r:embed="rId7"/>
          <a:stretch/>
        </p:blipFill>
        <p:spPr>
          <a:xfrm>
            <a:off x="8493120" y="3867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3" descr=""/>
          <p:cNvPicPr/>
          <p:nvPr/>
        </p:nvPicPr>
        <p:blipFill>
          <a:blip r:embed="rId8"/>
          <a:stretch/>
        </p:blipFill>
        <p:spPr>
          <a:xfrm>
            <a:off x="4356000" y="21366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60480" y="6175440"/>
            <a:ext cx="1622520" cy="339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0" descr=""/>
          <p:cNvPicPr/>
          <p:nvPr/>
        </p:nvPicPr>
        <p:blipFill>
          <a:blip r:embed="rId11"/>
          <a:stretch/>
        </p:blipFill>
        <p:spPr>
          <a:xfrm>
            <a:off x="8507520" y="2913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2" descr=""/>
          <p:cNvPicPr/>
          <p:nvPr/>
        </p:nvPicPr>
        <p:blipFill>
          <a:blip r:embed="rId12"/>
          <a:stretch/>
        </p:blipFill>
        <p:spPr>
          <a:xfrm>
            <a:off x="8478720" y="3909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3" descr=""/>
          <p:cNvPicPr/>
          <p:nvPr/>
        </p:nvPicPr>
        <p:blipFill>
          <a:blip r:embed="rId13"/>
          <a:stretch/>
        </p:blipFill>
        <p:spPr>
          <a:xfrm>
            <a:off x="8435880" y="45054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7">
            <a:hlinkClick r:id="rId1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48">
            <a:hlinkClick r:id="rId1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528480" y="1297080"/>
            <a:ext cx="80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pound sent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wo independent clauses joined by a coordinating conjunction such a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or, but, yet, so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n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5" descr=""/>
          <p:cNvPicPr/>
          <p:nvPr/>
        </p:nvPicPr>
        <p:blipFill>
          <a:blip r:embed="rId2"/>
          <a:stretch/>
        </p:blipFill>
        <p:spPr>
          <a:xfrm>
            <a:off x="4932360" y="22734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7"/>
          <p:cNvSpPr/>
          <p:nvPr/>
        </p:nvSpPr>
        <p:spPr>
          <a:xfrm>
            <a:off x="2971800" y="2892600"/>
            <a:ext cx="4290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o turned the kno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2959200" y="3521160"/>
            <a:ext cx="4302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 water poured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6" descr=""/>
          <p:cNvPicPr/>
          <p:nvPr/>
        </p:nvPicPr>
        <p:blipFill>
          <a:blip r:embed="rId3"/>
          <a:stretch/>
        </p:blipFill>
        <p:spPr>
          <a:xfrm>
            <a:off x="7440480" y="418608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35" descr=""/>
          <p:cNvPicPr/>
          <p:nvPr/>
        </p:nvPicPr>
        <p:blipFill>
          <a:blip r:embed="rId4"/>
          <a:stretch/>
        </p:blipFill>
        <p:spPr>
          <a:xfrm>
            <a:off x="768240" y="2857680"/>
            <a:ext cx="1857600" cy="23587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6"/>
          <p:cNvSpPr/>
          <p:nvPr/>
        </p:nvSpPr>
        <p:spPr>
          <a:xfrm>
            <a:off x="2952720" y="4097160"/>
            <a:ext cx="4302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o turned the knob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nd t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 water poured 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OS39087"/>
          <p:cNvPicPr/>
          <p:nvPr/>
        </p:nvPicPr>
        <p:blipFill>
          <a:blip r:embed="rId2"/>
          <a:stretch/>
        </p:blipFill>
        <p:spPr>
          <a:xfrm>
            <a:off x="477720" y="2097000"/>
            <a:ext cx="2575080" cy="3540240"/>
          </a:xfrm>
          <a:prstGeom prst="rect">
            <a:avLst/>
          </a:prstGeom>
          <a:ln w="0">
            <a:noFill/>
          </a:ln>
        </p:spPr>
      </p:pic>
      <p:sp>
        <p:nvSpPr>
          <p:cNvPr id="281" name="WordArt 4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uy Says...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6"/>
          <p:cNvSpPr/>
          <p:nvPr/>
        </p:nvSpPr>
        <p:spPr>
          <a:xfrm>
            <a:off x="3203640" y="1359000"/>
            <a:ext cx="5149800" cy="2341440"/>
          </a:xfrm>
          <a:prstGeom prst="wedgeRoundRectCallout">
            <a:avLst>
              <a:gd name="adj1" fmla="val -61282"/>
              <a:gd name="adj2" fmla="val 25523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Do not be fooled by compound verbs, which can make a sentence look like a compound sentence. You do not need to use a comma between the parts of a compound verb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7">
            <a:hlinkClick r:id="rId6" action="ppaction://hlinksldjump"/>
          </p:cNvPr>
          <p:cNvSpPr/>
          <p:nvPr/>
        </p:nvSpPr>
        <p:spPr>
          <a:xfrm>
            <a:off x="3095640" y="5880240"/>
            <a:ext cx="1374840" cy="685800"/>
          </a:xfrm>
          <a:custGeom>
            <a:avLst/>
            <a:gdLst>
              <a:gd name="textAreaLeft" fmla="*/ 44280 w 1374840"/>
              <a:gd name="textAreaRight" fmla="*/ 1330560 w 1374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291" h="21600">
                <a:moveTo>
                  <a:pt x="0" y="0"/>
                </a:moveTo>
                <a:lnTo>
                  <a:pt x="43291" y="0"/>
                </a:lnTo>
                <a:lnTo>
                  <a:pt x="43291" y="21600"/>
                </a:lnTo>
                <a:lnTo>
                  <a:pt x="0" y="21600"/>
                </a:lnTo>
                <a:close/>
              </a:path>
              <a:path fill="lightenLess" w="43291" h="21600">
                <a:moveTo>
                  <a:pt x="0" y="0"/>
                </a:moveTo>
                <a:lnTo>
                  <a:pt x="43291" y="0"/>
                </a:lnTo>
                <a:lnTo>
                  <a:pt x="41891" y="1400"/>
                </a:lnTo>
                <a:lnTo>
                  <a:pt x="1400" y="1400"/>
                </a:lnTo>
                <a:close/>
              </a:path>
              <a:path fill="darken" w="43291" h="21600">
                <a:moveTo>
                  <a:pt x="43291" y="0"/>
                </a:moveTo>
                <a:lnTo>
                  <a:pt x="43291" y="21600"/>
                </a:lnTo>
                <a:lnTo>
                  <a:pt x="41891" y="20200"/>
                </a:lnTo>
                <a:lnTo>
                  <a:pt x="41891" y="1400"/>
                </a:lnTo>
                <a:close/>
              </a:path>
              <a:path fill="darkenLess" w="43291" h="21600">
                <a:moveTo>
                  <a:pt x="43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1" y="20200"/>
                </a:lnTo>
                <a:close/>
              </a:path>
              <a:path fill="lighten" w="43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86" name="Picture 11" descr=""/>
          <p:cNvPicPr/>
          <p:nvPr/>
        </p:nvPicPr>
        <p:blipFill>
          <a:blip r:embed="rId7"/>
          <a:stretch/>
        </p:blipFill>
        <p:spPr>
          <a:xfrm>
            <a:off x="8207280" y="363708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2"/>
          <p:cNvSpPr/>
          <p:nvPr/>
        </p:nvSpPr>
        <p:spPr>
          <a:xfrm>
            <a:off x="3387600" y="3922560"/>
            <a:ext cx="49849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Dana hit the ball and ran to first ba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424320" y="4789440"/>
            <a:ext cx="4964040" cy="3988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ne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subjec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with two </a:t>
            </a:r>
            <a:r>
              <a:rPr b="1" lang="en-US" sz="2000" spc="-1" strike="noStrike">
                <a:solidFill>
                  <a:srgbClr val="7878ca"/>
                </a:solidFill>
                <a:latin typeface="Verdana"/>
              </a:rPr>
              <a:t>verb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3387600" y="3898800"/>
            <a:ext cx="49849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Dana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7878ca"/>
                </a:solidFill>
                <a:latin typeface="Verdana"/>
              </a:rPr>
              <a:t>hit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the ball and </a:t>
            </a:r>
            <a:r>
              <a:rPr b="1" lang="en-US" sz="2200" spc="-1" strike="noStrike">
                <a:solidFill>
                  <a:srgbClr val="7878ca"/>
                </a:solidFill>
                <a:latin typeface="Verdana"/>
              </a:rPr>
              <a:t>ran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to first ba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5" descr=""/>
          <p:cNvPicPr/>
          <p:nvPr/>
        </p:nvPicPr>
        <p:blipFill>
          <a:blip r:embed="rId8"/>
          <a:stretch/>
        </p:blipFill>
        <p:spPr>
          <a:xfrm>
            <a:off x="8456760" y="457056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28480" y="247968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Field hockey is an exciting sport but I lik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ccer even bett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28480" y="3456000"/>
            <a:ext cx="703908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called my friends and told them all about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trip to New Y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15" descr=""/>
          <p:cNvPicPr/>
          <p:nvPr/>
        </p:nvPicPr>
        <p:blipFill>
          <a:blip r:embed="rId2"/>
          <a:stretch/>
        </p:blipFill>
        <p:spPr>
          <a:xfrm>
            <a:off x="528480" y="130320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4"/>
          <p:cNvSpPr/>
          <p:nvPr/>
        </p:nvSpPr>
        <p:spPr>
          <a:xfrm>
            <a:off x="528480" y="4433760"/>
            <a:ext cx="702648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sailboat was almost hidden by the fog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yet we could see part of the ma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3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32800" y="264492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32800" y="362268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2800" y="458136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38">
            <a:hlinkClick r:id="rId9" action="ppaction://hlinksldjump"/>
          </p:cNvPr>
          <p:cNvSpPr/>
          <p:nvPr/>
        </p:nvSpPr>
        <p:spPr>
          <a:xfrm>
            <a:off x="3009960" y="604368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2" descr="5260836-2508x1672"/>
          <p:cNvPicPr/>
          <p:nvPr/>
        </p:nvPicPr>
        <p:blipFill>
          <a:blip r:embed="rId2"/>
          <a:stretch/>
        </p:blipFill>
        <p:spPr>
          <a:xfrm>
            <a:off x="7432560" y="4105440"/>
            <a:ext cx="118908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5260818-2508x1672"/>
          <p:cNvPicPr/>
          <p:nvPr/>
        </p:nvPicPr>
        <p:blipFill>
          <a:blip r:embed="rId3"/>
          <a:stretch/>
        </p:blipFill>
        <p:spPr>
          <a:xfrm>
            <a:off x="6143760" y="1836720"/>
            <a:ext cx="1352520" cy="2031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0"/>
          <p:cNvSpPr/>
          <p:nvPr/>
        </p:nvSpPr>
        <p:spPr>
          <a:xfrm>
            <a:off x="453960" y="9018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mmas set apart words or groups of words within a sentence. Using commas correctly helps make your meaning cle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y are commas importan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425400" y="33148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33520" y="2529000"/>
            <a:ext cx="5025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George William Jo Ann Kevin and Maria are all members of the quiz te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4"/>
          <a:stretch/>
        </p:blipFill>
        <p:spPr>
          <a:xfrm>
            <a:off x="5697360" y="38433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0"/>
          <p:cNvSpPr/>
          <p:nvPr/>
        </p:nvSpPr>
        <p:spPr>
          <a:xfrm>
            <a:off x="509760" y="4130640"/>
            <a:ext cx="48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ithout commas, it is unclear who the members of the team 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5" descr=""/>
          <p:cNvPicPr/>
          <p:nvPr/>
        </p:nvPicPr>
        <p:blipFill>
          <a:blip r:embed="rId5"/>
          <a:stretch/>
        </p:blipFill>
        <p:spPr>
          <a:xfrm>
            <a:off x="1290600" y="51483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6127920" y="3368520"/>
            <a:ext cx="262404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George?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or George Willia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972040" y="5249880"/>
            <a:ext cx="145764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?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or Jo An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31" descr=""/>
          <p:cNvPicPr/>
          <p:nvPr/>
        </p:nvPicPr>
        <p:blipFill>
          <a:blip r:embed="rId6"/>
          <a:stretch/>
        </p:blipFill>
        <p:spPr>
          <a:xfrm>
            <a:off x="3822840" y="18144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5"/>
          <p:cNvSpPr/>
          <p:nvPr/>
        </p:nvSpPr>
        <p:spPr>
          <a:xfrm>
            <a:off x="528480" y="260028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Field hockey is an exciting sport but I lik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ccer even bett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28480" y="1349280"/>
            <a:ext cx="80694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2"/>
          <a:stretch/>
        </p:blipFill>
        <p:spPr>
          <a:xfrm>
            <a:off x="528480" y="130320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5484960" y="25480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7867800" y="2597040"/>
            <a:ext cx="43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26"/>
          <p:cNvSpPr/>
          <p:nvPr/>
        </p:nvSpPr>
        <p:spPr>
          <a:xfrm>
            <a:off x="528480" y="3576600"/>
            <a:ext cx="7061400" cy="804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word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but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joins two parts of a compound sentence, so a comma should come before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8" descr=""/>
          <p:cNvPicPr/>
          <p:nvPr/>
        </p:nvPicPr>
        <p:blipFill>
          <a:blip r:embed="rId2"/>
          <a:stretch/>
        </p:blipFill>
        <p:spPr>
          <a:xfrm>
            <a:off x="528480" y="130320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1"/>
          <p:cNvSpPr/>
          <p:nvPr/>
        </p:nvSpPr>
        <p:spPr>
          <a:xfrm>
            <a:off x="7869240" y="24764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AutoShape 25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533520" y="2577960"/>
            <a:ext cx="70387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called my friends and told them all about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trip to New Y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27"/>
          <p:cNvSpPr/>
          <p:nvPr/>
        </p:nvSpPr>
        <p:spPr>
          <a:xfrm>
            <a:off x="528480" y="3763800"/>
            <a:ext cx="7061400" cy="10972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is sentence has a single subject,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I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, and a compound verb. It is not a compound sentence, so no comma is needed before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nd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6"/>
          <p:cNvSpPr/>
          <p:nvPr/>
        </p:nvSpPr>
        <p:spPr>
          <a:xfrm>
            <a:off x="533520" y="2592360"/>
            <a:ext cx="70261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sailboat was almost hidden by the fog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yet we could see part of the ma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2"/>
          <a:stretch/>
        </p:blipFill>
        <p:spPr>
          <a:xfrm>
            <a:off x="528480" y="130320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4"/>
          <p:cNvSpPr/>
          <p:nvPr/>
        </p:nvSpPr>
        <p:spPr>
          <a:xfrm>
            <a:off x="6937200" y="2538360"/>
            <a:ext cx="43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25">
            <a:hlinkClick r:id="rId3" action="ppaction://hlinksldjump"/>
          </p:cNvPr>
          <p:cNvSpPr/>
          <p:nvPr/>
        </p:nvSpPr>
        <p:spPr>
          <a:xfrm>
            <a:off x="3009960" y="60181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27"/>
          <p:cNvSpPr/>
          <p:nvPr/>
        </p:nvSpPr>
        <p:spPr>
          <a:xfrm>
            <a:off x="528480" y="3576600"/>
            <a:ext cx="7061400" cy="804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word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yet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joins two parts of a compound sentence, so a comma should come before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23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24"/>
          <p:cNvSpPr/>
          <p:nvPr/>
        </p:nvSpPr>
        <p:spPr>
          <a:xfrm>
            <a:off x="571680" y="99072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528480" y="1397160"/>
            <a:ext cx="7824960" cy="383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children must go to bed now or they will be tired in the mor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oak tree shaded the house but the shade kept the grass from grow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riel sings in the choir and Heidi plays in a ba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Jim practiced the piano piece all month for he wanted to perform well at the recital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0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1">
            <a:hlinkClick r:id="rId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0"/>
          <p:cNvSpPr/>
          <p:nvPr/>
        </p:nvSpPr>
        <p:spPr>
          <a:xfrm>
            <a:off x="533520" y="981000"/>
            <a:ext cx="15318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528480" y="1397160"/>
            <a:ext cx="7824960" cy="383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children must go to bed now or they will be tired in the mor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oak tree shaded the house but the shade kept the grass from grow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riel sings in the choir and Heidi plays in a ba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Jim practiced the piano piece all month for he wanted to perform well at the recital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571680" y="990720"/>
            <a:ext cx="15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5627520" y="220680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5335560" y="3065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4086360" y="38782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25" descr=""/>
          <p:cNvPicPr/>
          <p:nvPr/>
        </p:nvPicPr>
        <p:blipFill>
          <a:blip r:embed="rId2"/>
          <a:stretch/>
        </p:blipFill>
        <p:spPr>
          <a:xfrm>
            <a:off x="8515440" y="26956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6" descr=""/>
          <p:cNvPicPr/>
          <p:nvPr/>
        </p:nvPicPr>
        <p:blipFill>
          <a:blip r:embed="rId3"/>
          <a:stretch/>
        </p:blipFill>
        <p:spPr>
          <a:xfrm>
            <a:off x="8515440" y="3597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9" descr=""/>
          <p:cNvPicPr/>
          <p:nvPr/>
        </p:nvPicPr>
        <p:blipFill>
          <a:blip r:embed="rId4"/>
          <a:stretch/>
        </p:blipFill>
        <p:spPr>
          <a:xfrm>
            <a:off x="8515440" y="41036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0"/>
          <p:cNvSpPr/>
          <p:nvPr/>
        </p:nvSpPr>
        <p:spPr>
          <a:xfrm>
            <a:off x="6494400" y="4397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3" descr="4509173-1593x2400"/>
          <p:cNvPicPr/>
          <p:nvPr/>
        </p:nvPicPr>
        <p:blipFill>
          <a:blip r:embed="rId2"/>
          <a:srcRect l="16752" t="0" r="999" b="0"/>
          <a:stretch/>
        </p:blipFill>
        <p:spPr>
          <a:xfrm>
            <a:off x="5923080" y="3098880"/>
            <a:ext cx="2744640" cy="22129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528480" y="1297080"/>
            <a:ext cx="81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to set off elements that interrupt the sent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33520" y="2941560"/>
            <a:ext cx="4863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lass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please pay atten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28480" y="22748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ords used in direct add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533520" y="3562200"/>
            <a:ext cx="4863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would like to give my speech next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Ms. Gar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509760" y="4579920"/>
            <a:ext cx="49161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Your eagernes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Ben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s refresh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11" descr=""/>
          <p:cNvPicPr/>
          <p:nvPr/>
        </p:nvPicPr>
        <p:blipFill>
          <a:blip r:embed="rId3"/>
          <a:stretch/>
        </p:blipFill>
        <p:spPr>
          <a:xfrm>
            <a:off x="5495760" y="3317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4"/>
          <a:stretch/>
        </p:blipFill>
        <p:spPr>
          <a:xfrm>
            <a:off x="5530680" y="42735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7">
            <a:hlinkClick r:id="rId5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21">
            <a:hlinkClick r:id="rId6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528480" y="1068480"/>
            <a:ext cx="806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appositive or appositive phrase describes or identifies another noun. Use commas to set off appositives and appositive phrases when they are not necessary to the meaning of the sent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74560" y="2751120"/>
            <a:ext cx="605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ir dog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haco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s a mixed bre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574560" y="3316320"/>
            <a:ext cx="6093000" cy="70380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Verdana"/>
              </a:rPr>
              <a:t>Chaco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ies the dog. It is not essential to the sentence’s mean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74560" y="4152960"/>
            <a:ext cx="6782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Jamaica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popular island for tourists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s in the Caribbean S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74560" y="5140440"/>
            <a:ext cx="6689880" cy="3988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Verdana"/>
              </a:rPr>
              <a:t>A popular island for tourists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escribes Jama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utoShape 11">
            <a:hlinkClick r:id="rId2" action="ppaction://hlinksldjump"/>
          </p:cNvPr>
          <p:cNvSpPr/>
          <p:nvPr/>
        </p:nvSpPr>
        <p:spPr>
          <a:xfrm>
            <a:off x="571680" y="2641680"/>
            <a:ext cx="1498320" cy="485640"/>
          </a:xfrm>
          <a:custGeom>
            <a:avLst/>
            <a:gdLst>
              <a:gd name="textAreaLeft" fmla="*/ 31320 w 1498320"/>
              <a:gd name="textAreaRight" fmla="*/ 1467000 w 149832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66608" h="21600">
                <a:moveTo>
                  <a:pt x="0" y="0"/>
                </a:moveTo>
                <a:lnTo>
                  <a:pt x="66608" y="0"/>
                </a:lnTo>
                <a:lnTo>
                  <a:pt x="66608" y="21600"/>
                </a:lnTo>
                <a:lnTo>
                  <a:pt x="0" y="21600"/>
                </a:lnTo>
                <a:close/>
              </a:path>
              <a:path fill="lightenLess" w="66608" h="21600">
                <a:moveTo>
                  <a:pt x="0" y="0"/>
                </a:moveTo>
                <a:lnTo>
                  <a:pt x="66608" y="0"/>
                </a:lnTo>
                <a:lnTo>
                  <a:pt x="65208" y="1400"/>
                </a:lnTo>
                <a:lnTo>
                  <a:pt x="1400" y="1400"/>
                </a:lnTo>
                <a:close/>
              </a:path>
              <a:path fill="darken" w="66608" h="21600">
                <a:moveTo>
                  <a:pt x="66608" y="0"/>
                </a:moveTo>
                <a:lnTo>
                  <a:pt x="66608" y="21600"/>
                </a:lnTo>
                <a:lnTo>
                  <a:pt x="65208" y="20200"/>
                </a:lnTo>
                <a:lnTo>
                  <a:pt x="65208" y="1400"/>
                </a:lnTo>
                <a:close/>
              </a:path>
              <a:path fill="darkenLess" w="66608" h="21600">
                <a:moveTo>
                  <a:pt x="66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08" y="20200"/>
                </a:lnTo>
                <a:close/>
              </a:path>
              <a:path fill="lighten" w="66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12" descr=""/>
          <p:cNvPicPr/>
          <p:nvPr/>
        </p:nvPicPr>
        <p:blipFill>
          <a:blip r:embed="rId3"/>
          <a:stretch/>
        </p:blipFill>
        <p:spPr>
          <a:xfrm>
            <a:off x="6827760" y="38466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7">
            <a:hlinkClick r:id="rId4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6120" y="6137280"/>
            <a:ext cx="1622520" cy="33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528480" y="2476440"/>
            <a:ext cx="704376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ndrea when are you leaving for Detroit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523800" y="3075120"/>
            <a:ext cx="7043760" cy="85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huck Yeager an American pilot broke th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und barrier in 194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523800" y="403848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Please raise your hand Helen when you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ant to spea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2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5400" y="250992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32800" y="326700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8920" y="410364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25"/>
          <p:cNvSpPr/>
          <p:nvPr/>
        </p:nvSpPr>
        <p:spPr>
          <a:xfrm>
            <a:off x="536400" y="4998960"/>
            <a:ext cx="704376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friend Tim showed up l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2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758000" y="5016600"/>
            <a:ext cx="1030320" cy="42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6"/>
          <p:cNvSpPr/>
          <p:nvPr/>
        </p:nvSpPr>
        <p:spPr>
          <a:xfrm>
            <a:off x="528480" y="2635200"/>
            <a:ext cx="7043760" cy="53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ndrea when are you leaving for Detroit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962000" y="2575080"/>
            <a:ext cx="43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21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5"/>
          <p:cNvSpPr/>
          <p:nvPr/>
        </p:nvSpPr>
        <p:spPr>
          <a:xfrm>
            <a:off x="528480" y="3309840"/>
            <a:ext cx="7061400" cy="804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ndrea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s an interrupter that comes at the beginning of the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5"/>
          <p:cNvSpPr/>
          <p:nvPr/>
        </p:nvSpPr>
        <p:spPr>
          <a:xfrm>
            <a:off x="533520" y="262404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huck Yeager an American pilot broke th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und barrier in 194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21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3"/>
          <p:cNvSpPr/>
          <p:nvPr/>
        </p:nvSpPr>
        <p:spPr>
          <a:xfrm>
            <a:off x="2881440" y="256392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5457960" y="255096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24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26"/>
          <p:cNvSpPr/>
          <p:nvPr/>
        </p:nvSpPr>
        <p:spPr>
          <a:xfrm>
            <a:off x="528480" y="3591000"/>
            <a:ext cx="7061400" cy="109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n American pilot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s an appositive phrase describing Chuck Yeager, so it should be set off by a comm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7" descr="5260847-1672x2508"/>
          <p:cNvPicPr/>
          <p:nvPr/>
        </p:nvPicPr>
        <p:blipFill>
          <a:blip r:embed="rId2"/>
          <a:stretch/>
        </p:blipFill>
        <p:spPr>
          <a:xfrm>
            <a:off x="2457360" y="3473280"/>
            <a:ext cx="3446640" cy="2295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y are commas importan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3520" y="12970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mmas make the meaning of this sentence clear by separating the names in the lis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0" descr=""/>
          <p:cNvPicPr/>
          <p:nvPr/>
        </p:nvPicPr>
        <p:blipFill>
          <a:blip r:embed="rId3"/>
          <a:stretch/>
        </p:blipFill>
        <p:spPr>
          <a:xfrm>
            <a:off x="8521560" y="30510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2"/>
          <p:cNvSpPr/>
          <p:nvPr/>
        </p:nvSpPr>
        <p:spPr>
          <a:xfrm>
            <a:off x="533520" y="2340000"/>
            <a:ext cx="7819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George Willia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Jo Ann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Kevin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and Maria are all members of the quiz te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8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4"/>
          <p:cNvSpPr/>
          <p:nvPr/>
        </p:nvSpPr>
        <p:spPr>
          <a:xfrm>
            <a:off x="523800" y="261612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Please raise your hand Helen when you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ant to spea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20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23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528480" y="3583080"/>
            <a:ext cx="7061400" cy="7128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Helen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nterrupts the sentence and needs to be set off by com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4135320" y="2550960"/>
            <a:ext cx="43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5021280" y="256536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7686720" y="264780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8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33520" y="2697120"/>
            <a:ext cx="7043760" cy="49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friend Tim showed up l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522360" y="3367080"/>
            <a:ext cx="7061040" cy="109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appositive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Tim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s not set off by commas because it is essential. The speaker is telling us which friend was l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21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571680" y="990720"/>
            <a:ext cx="20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8480" y="1398600"/>
            <a:ext cx="7824960" cy="38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i="1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sister was happy to see her favorite movie </a:t>
            </a:r>
            <a:r>
              <a:rPr b="0" i="1" lang="en-US" sz="2200" spc="-1" strike="noStrike">
                <a:solidFill>
                  <a:srgbClr val="330066"/>
                </a:solidFill>
                <a:latin typeface="Verdana"/>
              </a:rPr>
              <a:t>Charlotte’s Web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laine who swims well wants to become a lifeguar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Juan the captain of our soccer team is il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hen you go outside Kami please take out the tras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23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26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27">
            <a:hlinkClick r:id="rId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0"/>
          <p:cNvSpPr/>
          <p:nvPr/>
        </p:nvSpPr>
        <p:spPr>
          <a:xfrm>
            <a:off x="533520" y="981000"/>
            <a:ext cx="155412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528480" y="1398600"/>
            <a:ext cx="7824960" cy="38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i="1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sister was excited to see her favorite movie </a:t>
            </a:r>
            <a:r>
              <a:rPr b="0" i="1" lang="en-US" sz="2200" spc="-1" strike="noStrike">
                <a:solidFill>
                  <a:srgbClr val="330066"/>
                </a:solidFill>
                <a:latin typeface="Verdana"/>
              </a:rPr>
              <a:t>Charlotte’s Web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laine who swims well wants to become a lifeguar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Juan the captain of our soccer team is il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hen you go outside Kami please take out the tras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571680" y="99072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7610400" y="225108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1839960" y="30639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1746360" y="38908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4102200" y="30765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26" descr=""/>
          <p:cNvPicPr/>
          <p:nvPr/>
        </p:nvPicPr>
        <p:blipFill>
          <a:blip r:embed="rId2"/>
          <a:stretch/>
        </p:blipFill>
        <p:spPr>
          <a:xfrm>
            <a:off x="8529480" y="28195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7" descr=""/>
          <p:cNvPicPr/>
          <p:nvPr/>
        </p:nvPicPr>
        <p:blipFill>
          <a:blip r:embed="rId3"/>
          <a:stretch/>
        </p:blipFill>
        <p:spPr>
          <a:xfrm>
            <a:off x="8515440" y="35337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9" descr=""/>
          <p:cNvPicPr/>
          <p:nvPr/>
        </p:nvPicPr>
        <p:blipFill>
          <a:blip r:embed="rId4"/>
          <a:stretch/>
        </p:blipFill>
        <p:spPr>
          <a:xfrm>
            <a:off x="8515440" y="41241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2"/>
          <p:cNvSpPr/>
          <p:nvPr/>
        </p:nvSpPr>
        <p:spPr>
          <a:xfrm>
            <a:off x="4745160" y="44388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33"/>
          <p:cNvSpPr/>
          <p:nvPr/>
        </p:nvSpPr>
        <p:spPr>
          <a:xfrm>
            <a:off x="3916440" y="43894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34"/>
          <p:cNvSpPr/>
          <p:nvPr/>
        </p:nvSpPr>
        <p:spPr>
          <a:xfrm>
            <a:off x="6116760" y="39225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6" descr="2839230-1597x2400"/>
          <p:cNvPicPr/>
          <p:nvPr/>
        </p:nvPicPr>
        <p:blipFill>
          <a:blip r:embed="rId2"/>
          <a:stretch/>
        </p:blipFill>
        <p:spPr>
          <a:xfrm>
            <a:off x="6095880" y="3738600"/>
            <a:ext cx="2505240" cy="1665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528480" y="1297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a comma to set off certain introductory eleme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533520" y="2909880"/>
            <a:ext cx="7883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ell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ave you girls finished with that mural ye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523800" y="4562640"/>
            <a:ext cx="5130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Yes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oni just finished painting her pa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533520" y="233856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Mild exclamations such as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well,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oh,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or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2279520" y="19080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8"/>
          <p:cNvSpPr/>
          <p:nvPr/>
        </p:nvSpPr>
        <p:spPr>
          <a:xfrm>
            <a:off x="509760" y="3621240"/>
            <a:ext cx="546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troductory words such as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ye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4"/>
          <a:stretch/>
        </p:blipFill>
        <p:spPr>
          <a:xfrm>
            <a:off x="8596440" y="32796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>
            <a:hlinkClick r:id="rId5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528480" y="1297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a comma to set off certain introductory eleme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533520" y="2940120"/>
            <a:ext cx="7819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ignaling for a timeout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 coach gathered her pla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546120" y="233856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troductory participial phr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528480" y="5092560"/>
            <a:ext cx="7824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t the conclusion of the first half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r team was trailing by four poi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528480" y="4129200"/>
            <a:ext cx="78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wo or more introductory prepositional phra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r one long 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8">
            <a:hlinkClick r:id="rId2" action="ppaction://hlinksldjump"/>
          </p:cNvPr>
          <p:cNvSpPr/>
          <p:nvPr/>
        </p:nvSpPr>
        <p:spPr>
          <a:xfrm>
            <a:off x="507960" y="4572000"/>
            <a:ext cx="1501920" cy="380880"/>
          </a:xfrm>
          <a:custGeom>
            <a:avLst/>
            <a:gdLst>
              <a:gd name="textAreaLeft" fmla="*/ 24480 w 1501920"/>
              <a:gd name="textAreaRight" fmla="*/ 1477440 w 1501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5115" h="21600">
                <a:moveTo>
                  <a:pt x="0" y="0"/>
                </a:moveTo>
                <a:lnTo>
                  <a:pt x="85115" y="0"/>
                </a:lnTo>
                <a:lnTo>
                  <a:pt x="85115" y="21600"/>
                </a:lnTo>
                <a:lnTo>
                  <a:pt x="0" y="21600"/>
                </a:lnTo>
                <a:close/>
              </a:path>
              <a:path fill="lightenLess" w="85115" h="21600">
                <a:moveTo>
                  <a:pt x="0" y="0"/>
                </a:moveTo>
                <a:lnTo>
                  <a:pt x="85115" y="0"/>
                </a:lnTo>
                <a:lnTo>
                  <a:pt x="83715" y="1400"/>
                </a:lnTo>
                <a:lnTo>
                  <a:pt x="1400" y="1400"/>
                </a:lnTo>
                <a:close/>
              </a:path>
              <a:path fill="darken" w="85115" h="21600">
                <a:moveTo>
                  <a:pt x="85115" y="0"/>
                </a:moveTo>
                <a:lnTo>
                  <a:pt x="85115" y="21600"/>
                </a:lnTo>
                <a:lnTo>
                  <a:pt x="83715" y="20200"/>
                </a:lnTo>
                <a:lnTo>
                  <a:pt x="83715" y="1400"/>
                </a:lnTo>
                <a:close/>
              </a:path>
              <a:path fill="darkenLess" w="85115" h="21600">
                <a:moveTo>
                  <a:pt x="85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715" y="20200"/>
                </a:lnTo>
                <a:close/>
              </a:path>
              <a:path fill="lighten" w="85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AutoShape 9">
            <a:hlinkClick r:id="rId3" action="ppaction://hlinksldjump"/>
          </p:cNvPr>
          <p:cNvSpPr/>
          <p:nvPr/>
        </p:nvSpPr>
        <p:spPr>
          <a:xfrm>
            <a:off x="2857680" y="2349360"/>
            <a:ext cx="3288960" cy="457200"/>
          </a:xfrm>
          <a:custGeom>
            <a:avLst/>
            <a:gdLst>
              <a:gd name="textAreaLeft" fmla="*/ 29520 w 3288960"/>
              <a:gd name="textAreaRight" fmla="*/ 3259440 w 328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5279" h="21600">
                <a:moveTo>
                  <a:pt x="0" y="0"/>
                </a:moveTo>
                <a:lnTo>
                  <a:pt x="155279" y="0"/>
                </a:lnTo>
                <a:lnTo>
                  <a:pt x="155279" y="21600"/>
                </a:lnTo>
                <a:lnTo>
                  <a:pt x="0" y="21600"/>
                </a:lnTo>
                <a:close/>
              </a:path>
              <a:path fill="lightenLess" w="155279" h="21600">
                <a:moveTo>
                  <a:pt x="0" y="0"/>
                </a:moveTo>
                <a:lnTo>
                  <a:pt x="155279" y="0"/>
                </a:lnTo>
                <a:lnTo>
                  <a:pt x="153879" y="1400"/>
                </a:lnTo>
                <a:lnTo>
                  <a:pt x="1400" y="1400"/>
                </a:lnTo>
                <a:close/>
              </a:path>
              <a:path fill="darken" w="155279" h="21600">
                <a:moveTo>
                  <a:pt x="155279" y="0"/>
                </a:moveTo>
                <a:lnTo>
                  <a:pt x="155279" y="21600"/>
                </a:lnTo>
                <a:lnTo>
                  <a:pt x="153879" y="20200"/>
                </a:lnTo>
                <a:lnTo>
                  <a:pt x="153879" y="1400"/>
                </a:lnTo>
                <a:close/>
              </a:path>
              <a:path fill="darkenLess" w="155279" h="21600">
                <a:moveTo>
                  <a:pt x="155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79" y="20200"/>
                </a:lnTo>
                <a:close/>
              </a:path>
              <a:path fill="lighten" w="155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Picture 10" descr=""/>
          <p:cNvPicPr/>
          <p:nvPr/>
        </p:nvPicPr>
        <p:blipFill>
          <a:blip r:embed="rId4"/>
          <a:stretch/>
        </p:blipFill>
        <p:spPr>
          <a:xfrm>
            <a:off x="8604360" y="368604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528480" y="1297080"/>
            <a:ext cx="80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remember all the reasons to use commas, think of the word “LIES”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46120" y="613728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0"/>
          <p:cNvSpPr/>
          <p:nvPr/>
        </p:nvSpPr>
        <p:spPr>
          <a:xfrm>
            <a:off x="696600" y="23083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734760" y="307332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714240" y="39020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728640" y="4606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1167120" y="2541600"/>
            <a:ext cx="175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ists of it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1033560" y="3332160"/>
            <a:ext cx="186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ntrodu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1213920" y="4098960"/>
            <a:ext cx="233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xtra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1172160" y="4827600"/>
            <a:ext cx="310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entences pu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3"/>
          <p:cNvSpPr/>
          <p:nvPr/>
        </p:nvSpPr>
        <p:spPr>
          <a:xfrm>
            <a:off x="3541680" y="2524680"/>
            <a:ext cx="4765680" cy="429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Bring a hat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gloves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and a scarf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4"/>
          <p:cNvSpPr/>
          <p:nvPr/>
        </p:nvSpPr>
        <p:spPr>
          <a:xfrm>
            <a:off x="3541680" y="3265920"/>
            <a:ext cx="476568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Yes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that is a card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Rectangle 25"/>
          <p:cNvSpPr/>
          <p:nvPr/>
        </p:nvSpPr>
        <p:spPr>
          <a:xfrm>
            <a:off x="3738600" y="4080600"/>
            <a:ext cx="4567320" cy="429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an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of course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was late aga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Rectangle 26"/>
          <p:cNvSpPr/>
          <p:nvPr/>
        </p:nvSpPr>
        <p:spPr>
          <a:xfrm>
            <a:off x="4506840" y="4847400"/>
            <a:ext cx="3781440" cy="429120"/>
          </a:xfrm>
          <a:prstGeom prst="rect">
            <a:avLst/>
          </a:prstGeom>
          <a:solidFill>
            <a:srgbClr val="787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 was tired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yet I stay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31" descr=""/>
          <p:cNvPicPr/>
          <p:nvPr/>
        </p:nvPicPr>
        <p:blipFill>
          <a:blip r:embed="rId4"/>
          <a:stretch/>
        </p:blipFill>
        <p:spPr>
          <a:xfrm>
            <a:off x="3656160" y="1889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2" descr=""/>
          <p:cNvPicPr/>
          <p:nvPr/>
        </p:nvPicPr>
        <p:blipFill>
          <a:blip r:embed="rId5"/>
          <a:stretch/>
        </p:blipFill>
        <p:spPr>
          <a:xfrm>
            <a:off x="8488440" y="27687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3" descr=""/>
          <p:cNvPicPr/>
          <p:nvPr/>
        </p:nvPicPr>
        <p:blipFill>
          <a:blip r:embed="rId6"/>
          <a:stretch/>
        </p:blipFill>
        <p:spPr>
          <a:xfrm>
            <a:off x="8488440" y="3473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4" descr=""/>
          <p:cNvPicPr/>
          <p:nvPr/>
        </p:nvPicPr>
        <p:blipFill>
          <a:blip r:embed="rId7"/>
          <a:stretch/>
        </p:blipFill>
        <p:spPr>
          <a:xfrm>
            <a:off x="8464680" y="42498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6">
            <a:hlinkClick r:id="rId8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528480" y="2476440"/>
            <a:ext cx="704376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 the evening he usually goes for a wal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533520" y="3079800"/>
            <a:ext cx="70387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n her way to school in the morning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Roseanne was thinking about her pro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23800" y="4665600"/>
            <a:ext cx="702648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lthough he trained hard for a month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rnesto could not break his own recor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32800" y="250668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37480" y="322092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1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8920" y="40924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3"/>
          <p:cNvSpPr/>
          <p:nvPr/>
        </p:nvSpPr>
        <p:spPr>
          <a:xfrm>
            <a:off x="533520" y="4040280"/>
            <a:ext cx="702612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ll I think we should ask for hel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1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753320" y="4821120"/>
            <a:ext cx="1030320" cy="4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4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7869240" y="24764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533520" y="2514600"/>
            <a:ext cx="704376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 the evening he usually goes for a wal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33520" y="3156120"/>
            <a:ext cx="7061040" cy="109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single, short introductory prepositional phrase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In the evening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does not require a com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0"/>
          <p:cNvSpPr/>
          <p:nvPr/>
        </p:nvSpPr>
        <p:spPr>
          <a:xfrm>
            <a:off x="509760" y="2540160"/>
            <a:ext cx="7038720" cy="85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n her way to school in the morning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Roseanne was thinking about her pro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6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6153120" y="24670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AutoShape 9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33520" y="3562200"/>
            <a:ext cx="7061040" cy="822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wo or more introductory prepositional phrases should be followed by a com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04720" y="992160"/>
            <a:ext cx="80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to separate items in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ries.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series is three or more items written one after anoth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8481960" y="34495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528480" y="227160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ords in a s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33520" y="367992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hrases in a s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up 45"/>
          <p:cNvGrpSpPr/>
          <p:nvPr/>
        </p:nvGrpSpPr>
        <p:grpSpPr>
          <a:xfrm>
            <a:off x="533520" y="2801880"/>
            <a:ext cx="7819920" cy="825480"/>
            <a:chOff x="533520" y="2801880"/>
            <a:chExt cx="7819920" cy="825480"/>
          </a:xfrm>
        </p:grpSpPr>
        <p:sp>
          <p:nvSpPr>
            <p:cNvPr id="114" name="Text Box 5"/>
            <p:cNvSpPr/>
            <p:nvPr/>
          </p:nvSpPr>
          <p:spPr>
            <a:xfrm>
              <a:off x="533520" y="2801880"/>
              <a:ext cx="781992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On the trail we saw chipmunks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woodpeckers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and snake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>
              <a:off x="3718080" y="3217680"/>
              <a:ext cx="162396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>
              <a:off x="5580000" y="3216240"/>
              <a:ext cx="20322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1285920" y="3558960"/>
              <a:ext cx="1047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" name="Group 44"/>
          <p:cNvGrpSpPr/>
          <p:nvPr/>
        </p:nvGrpSpPr>
        <p:grpSpPr>
          <a:xfrm>
            <a:off x="533520" y="4227480"/>
            <a:ext cx="7819920" cy="825480"/>
            <a:chOff x="533520" y="4227480"/>
            <a:chExt cx="7819920" cy="825480"/>
          </a:xfrm>
        </p:grpSpPr>
        <p:sp>
          <p:nvSpPr>
            <p:cNvPr id="119" name="Text Box 18"/>
            <p:cNvSpPr/>
            <p:nvPr/>
          </p:nvSpPr>
          <p:spPr>
            <a:xfrm>
              <a:off x="533520" y="4227480"/>
              <a:ext cx="781992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We drove along the highway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up the mountain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and into the woods to visit the nature center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>
              <a:off x="5235480" y="4633920"/>
              <a:ext cx="256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36"/>
            <p:cNvSpPr/>
            <p:nvPr/>
          </p:nvSpPr>
          <p:spPr>
            <a:xfrm>
              <a:off x="2228760" y="4626000"/>
              <a:ext cx="2765520" cy="1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37"/>
            <p:cNvSpPr/>
            <p:nvPr/>
          </p:nvSpPr>
          <p:spPr>
            <a:xfrm>
              <a:off x="1300320" y="4987800"/>
              <a:ext cx="225108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3" name="Picture 40" descr=""/>
          <p:cNvPicPr/>
          <p:nvPr/>
        </p:nvPicPr>
        <p:blipFill>
          <a:blip r:embed="rId3"/>
          <a:stretch/>
        </p:blipFill>
        <p:spPr>
          <a:xfrm>
            <a:off x="2108160" y="19810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2120" y="61610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8">
            <a:hlinkClick r:id="rId6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0"/>
          <p:cNvSpPr/>
          <p:nvPr/>
        </p:nvSpPr>
        <p:spPr>
          <a:xfrm>
            <a:off x="533520" y="2533680"/>
            <a:ext cx="702612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ll I think we should ask for hel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8"/>
          <p:cNvSpPr/>
          <p:nvPr/>
        </p:nvSpPr>
        <p:spPr>
          <a:xfrm>
            <a:off x="1571760" y="24796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AutoShape 9">
            <a:hlinkClick r:id="rId3" action="ppaction://hlinksldjump"/>
          </p:cNvPr>
          <p:cNvSpPr/>
          <p:nvPr/>
        </p:nvSpPr>
        <p:spPr>
          <a:xfrm>
            <a:off x="3009960" y="604368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533520" y="3173400"/>
            <a:ext cx="7061040" cy="8222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ild exclamations such as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well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are set off by a comm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9"/>
          <p:cNvSpPr/>
          <p:nvPr/>
        </p:nvSpPr>
        <p:spPr>
          <a:xfrm>
            <a:off x="509760" y="2630520"/>
            <a:ext cx="70261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lthough he trained hard for a month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rnesto could not break his own recor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Picture 6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7"/>
          <p:cNvSpPr/>
          <p:nvPr/>
        </p:nvSpPr>
        <p:spPr>
          <a:xfrm>
            <a:off x="6257880" y="255600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AutoShape 8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528480" y="3614760"/>
            <a:ext cx="6999480" cy="11430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lthough he trained hard for a month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s an introductory adverb clause and should be set off by a com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4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71680" y="99072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528480" y="1398600"/>
            <a:ext cx="7824960" cy="351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 the corner of the room a night light showed the way to the do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hy that’s a beautiful ring you’re wea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Because the snow cover was so thin the deer had no trouble finding foo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miling from ear to ear Monica told us the ne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Rectangle 10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Rectangle 11">
            <a:hlinkClick r:id="rId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4"/>
          <p:cNvSpPr/>
          <p:nvPr/>
        </p:nvSpPr>
        <p:spPr>
          <a:xfrm>
            <a:off x="533520" y="981000"/>
            <a:ext cx="15588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528480" y="1398600"/>
            <a:ext cx="7824960" cy="351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 the corner of the room a night light showed the way to the do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hy that’s a beautiful ring you’re wea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Because the snow cover was so thin the deer had no trouble finding foo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miling from ear to ear Monica told us the ne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71680" y="99072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4546440" y="222552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1573200" y="30956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075360" y="35654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8582040" y="2716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8596440" y="32367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3" descr=""/>
          <p:cNvPicPr/>
          <p:nvPr/>
        </p:nvPicPr>
        <p:blipFill>
          <a:blip r:embed="rId4"/>
          <a:stretch/>
        </p:blipFill>
        <p:spPr>
          <a:xfrm>
            <a:off x="8582040" y="41162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15"/>
          <p:cNvSpPr/>
          <p:nvPr/>
        </p:nvSpPr>
        <p:spPr>
          <a:xfrm>
            <a:off x="4248000" y="440532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6" descr="3169176-2250x1500"/>
          <p:cNvPicPr/>
          <p:nvPr/>
        </p:nvPicPr>
        <p:blipFill>
          <a:blip r:embed="rId2"/>
          <a:srcRect l="0" t="11333" r="0" b="13732"/>
          <a:stretch/>
        </p:blipFill>
        <p:spPr>
          <a:xfrm>
            <a:off x="6772320" y="2933640"/>
            <a:ext cx="1819080" cy="20448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528480" y="12952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in certain conventional situatio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 Box 32"/>
          <p:cNvSpPr/>
          <p:nvPr/>
        </p:nvSpPr>
        <p:spPr>
          <a:xfrm>
            <a:off x="533520" y="2975040"/>
            <a:ext cx="5956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A letter dated November 26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1888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was found in the old house at 980 West Street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Davenport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Iowa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yesterd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33"/>
          <p:cNvSpPr/>
          <p:nvPr/>
        </p:nvSpPr>
        <p:spPr>
          <a:xfrm>
            <a:off x="528480" y="1995480"/>
            <a:ext cx="58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parate items in dates and addr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5" name="Picture 36" descr=""/>
          <p:cNvPicPr/>
          <p:nvPr/>
        </p:nvPicPr>
        <p:blipFill>
          <a:blip r:embed="rId3"/>
          <a:stretch/>
        </p:blipFill>
        <p:spPr>
          <a:xfrm>
            <a:off x="8061480" y="1514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44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528480" y="12952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in certain conventional situatio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533520" y="2673360"/>
            <a:ext cx="3197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Dear Grandfather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528480" y="2008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fter the salutation of a personal l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3063960" y="366084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fter the closing of any l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4040280" y="2673360"/>
            <a:ext cx="297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My dear Rosalyn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102120" y="4336920"/>
            <a:ext cx="287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incerely your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6119640" y="4338720"/>
            <a:ext cx="1930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With love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5" name="Picture 12" descr=""/>
          <p:cNvPicPr/>
          <p:nvPr/>
        </p:nvPicPr>
        <p:blipFill>
          <a:blip r:embed="rId2"/>
          <a:stretch/>
        </p:blipFill>
        <p:spPr>
          <a:xfrm>
            <a:off x="7196040" y="30132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"/>
          <p:cNvPicPr/>
          <p:nvPr/>
        </p:nvPicPr>
        <p:blipFill>
          <a:blip r:embed="rId3"/>
          <a:stretch/>
        </p:blipFill>
        <p:spPr>
          <a:xfrm>
            <a:off x="809640" y="3409920"/>
            <a:ext cx="1942920" cy="24811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46120" y="613728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7"/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28480" y="2476440"/>
            <a:ext cx="70311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letter was signed “Best regards Cindy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urphy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345276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ur new address is 1808 Jackson Drive,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mes, Iow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528480" y="443376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 adopted our cat in Dallas Texas on May 9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00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24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5" descr=""/>
          <p:cNvPicPr/>
          <p:nvPr/>
        </p:nvPicPr>
        <p:blipFill>
          <a:blip r:embed="rId3"/>
          <a:stretch/>
        </p:blipFill>
        <p:spPr>
          <a:xfrm>
            <a:off x="7732800" y="269388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6" descr=""/>
          <p:cNvPicPr/>
          <p:nvPr/>
        </p:nvPicPr>
        <p:blipFill>
          <a:blip r:embed="rId4"/>
          <a:stretch/>
        </p:blipFill>
        <p:spPr>
          <a:xfrm>
            <a:off x="7719840" y="367992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7" descr=""/>
          <p:cNvPicPr/>
          <p:nvPr/>
        </p:nvPicPr>
        <p:blipFill>
          <a:blip r:embed="rId5"/>
          <a:stretch/>
        </p:blipFill>
        <p:spPr>
          <a:xfrm>
            <a:off x="7732800" y="4556160"/>
            <a:ext cx="1030320" cy="42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7"/>
          <p:cNvSpPr/>
          <p:nvPr/>
        </p:nvSpPr>
        <p:spPr>
          <a:xfrm>
            <a:off x="533520" y="2525760"/>
            <a:ext cx="703080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letter was signed “Best regards Cindy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urphy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Text Box 12"/>
          <p:cNvSpPr/>
          <p:nvPr/>
        </p:nvSpPr>
        <p:spPr>
          <a:xfrm>
            <a:off x="5989680" y="25052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Text Box 21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2" name="Picture 22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28"/>
          <p:cNvSpPr/>
          <p:nvPr/>
        </p:nvSpPr>
        <p:spPr>
          <a:xfrm>
            <a:off x="533520" y="3529080"/>
            <a:ext cx="7049880" cy="457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a comma after the closing of any let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6"/>
          <p:cNvSpPr/>
          <p:nvPr/>
        </p:nvSpPr>
        <p:spPr>
          <a:xfrm>
            <a:off x="7758000" y="2627280"/>
            <a:ext cx="33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528480" y="1297080"/>
            <a:ext cx="80694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Picture 22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25"/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509760" y="2548080"/>
            <a:ext cx="7043400" cy="85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ur new address is 1808 Jackson Drive,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mes, Iow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27"/>
          <p:cNvSpPr/>
          <p:nvPr/>
        </p:nvSpPr>
        <p:spPr>
          <a:xfrm>
            <a:off x="533520" y="3554280"/>
            <a:ext cx="6999120" cy="457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a comma to separate items in address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5"/>
          <p:cNvSpPr/>
          <p:nvPr/>
        </p:nvSpPr>
        <p:spPr>
          <a:xfrm>
            <a:off x="509760" y="2517840"/>
            <a:ext cx="7043400" cy="85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 adopted our cat in Dallas Texas on May 9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00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4" name="Picture 22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9"/>
          <p:cNvSpPr/>
          <p:nvPr/>
        </p:nvSpPr>
        <p:spPr>
          <a:xfrm>
            <a:off x="5029200" y="244152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5911920" y="24670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7283520" y="243360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AutoShape 24"/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Rectangle 26"/>
          <p:cNvSpPr/>
          <p:nvPr/>
        </p:nvSpPr>
        <p:spPr>
          <a:xfrm>
            <a:off x="533520" y="3562200"/>
            <a:ext cx="6999120" cy="822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a comma to separate items in addresses and 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OS39085"/>
          <p:cNvPicPr/>
          <p:nvPr/>
        </p:nvPicPr>
        <p:blipFill>
          <a:blip r:embed="rId2"/>
          <a:stretch/>
        </p:blipFill>
        <p:spPr>
          <a:xfrm>
            <a:off x="444600" y="2130480"/>
            <a:ext cx="2727360" cy="37497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uy Says...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3203640" y="1359000"/>
            <a:ext cx="5149800" cy="1208160"/>
          </a:xfrm>
          <a:prstGeom prst="wedgeRoundRectCallout">
            <a:avLst>
              <a:gd name="adj1" fmla="val -65166"/>
              <a:gd name="adj2" fmla="val 112680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f all items in a series are joined by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nd, or,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or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nor,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do not use commas to separate th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31" name="Picture 12" descr=""/>
          <p:cNvPicPr/>
          <p:nvPr/>
        </p:nvPicPr>
        <p:blipFill>
          <a:blip r:embed="rId6"/>
          <a:stretch/>
        </p:blipFill>
        <p:spPr>
          <a:xfrm>
            <a:off x="8601120" y="2467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7"/>
          <a:stretch/>
        </p:blipFill>
        <p:spPr>
          <a:xfrm>
            <a:off x="8529480" y="39258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6"/>
          <p:cNvSpPr/>
          <p:nvPr/>
        </p:nvSpPr>
        <p:spPr>
          <a:xfrm>
            <a:off x="3300480" y="3252960"/>
            <a:ext cx="5076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hall we go bowling 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or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rent a movie 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or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listen to music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300480" y="4129200"/>
            <a:ext cx="5076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’ve seen snakes 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and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lizards 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and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toads in our yar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Picture 22" descr=""/>
          <p:cNvPicPr/>
          <p:nvPr/>
        </p:nvPicPr>
        <p:blipFill>
          <a:blip r:embed="rId2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23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571680" y="990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528480" y="1398600"/>
            <a:ext cx="7824960" cy="333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Harvest Festival was on Friday November 16 200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letter began “My dearest Janet How are the children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main office in Santa Barbara California has a new fax nu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Text Box 25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Rectangle 27"/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6"/>
          <p:cNvSpPr/>
          <p:nvPr/>
        </p:nvSpPr>
        <p:spPr>
          <a:xfrm>
            <a:off x="533520" y="981000"/>
            <a:ext cx="15714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Text Box 34"/>
          <p:cNvSpPr/>
          <p:nvPr/>
        </p:nvSpPr>
        <p:spPr>
          <a:xfrm>
            <a:off x="528480" y="1398600"/>
            <a:ext cx="7824960" cy="333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Harvest Festival is on Friday November 16 200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letter began “My dearest Janet How are the children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main office in Santa Barbara California has a new fax nu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27"/>
          <p:cNvSpPr/>
          <p:nvPr/>
        </p:nvSpPr>
        <p:spPr>
          <a:xfrm>
            <a:off x="571680" y="990720"/>
            <a:ext cx="15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5576760" y="22240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7586640" y="219852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5932440" y="30639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605560" y="38768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34040" y="387684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31" descr=""/>
          <p:cNvPicPr/>
          <p:nvPr/>
        </p:nvPicPr>
        <p:blipFill>
          <a:blip r:embed="rId2"/>
          <a:stretch/>
        </p:blipFill>
        <p:spPr>
          <a:xfrm>
            <a:off x="8597880" y="2735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2" descr=""/>
          <p:cNvPicPr/>
          <p:nvPr/>
        </p:nvPicPr>
        <p:blipFill>
          <a:blip r:embed="rId3"/>
          <a:stretch/>
        </p:blipFill>
        <p:spPr>
          <a:xfrm>
            <a:off x="8597880" y="345924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528480" y="1297080"/>
            <a:ext cx="806940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y little brother likes to draw castles dragons and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r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is mild, creamy cheese will taste good with th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re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 bought a new skirt but I haven’t worn it y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r. Reyes who teaches science at the high school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ill be our guest speaker to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23" descr=""/>
          <p:cNvPicPr/>
          <p:nvPr/>
        </p:nvPicPr>
        <p:blipFill>
          <a:blip r:embed="rId2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4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6"/>
          <p:cNvSpPr/>
          <p:nvPr/>
        </p:nvSpPr>
        <p:spPr>
          <a:xfrm>
            <a:off x="528480" y="1297080"/>
            <a:ext cx="806940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y little brother likes to draw castles dragons and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r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is mild, creamy cheese will taste good with th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re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 bought a new skirt but I haven’t worn it y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r. Reyes who teaches science at the high school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ill be our guest speaker to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874800" y="2865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6500880" y="21686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3029040" y="411012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8158320" y="41115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7577280" y="21686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4362480" y="36734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3" name="Picture 21" descr=""/>
          <p:cNvPicPr/>
          <p:nvPr/>
        </p:nvPicPr>
        <p:blipFill>
          <a:blip r:embed="rId2"/>
          <a:stretch/>
        </p:blipFill>
        <p:spPr>
          <a:xfrm>
            <a:off x="2932200" y="28177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2" descr=""/>
          <p:cNvPicPr/>
          <p:nvPr/>
        </p:nvPicPr>
        <p:blipFill>
          <a:blip r:embed="rId3"/>
          <a:stretch/>
        </p:blipFill>
        <p:spPr>
          <a:xfrm>
            <a:off x="2786040" y="3446640"/>
            <a:ext cx="133200" cy="88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8" descr=""/>
          <p:cNvPicPr/>
          <p:nvPr/>
        </p:nvPicPr>
        <p:blipFill>
          <a:blip r:embed="rId4"/>
          <a:stretch/>
        </p:blipFill>
        <p:spPr>
          <a:xfrm>
            <a:off x="7796160" y="378936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528480" y="1297080"/>
            <a:ext cx="80694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dd commas where necessary in the following senten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squirrel ran over the lawn up the tree and onto a high bran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beaver a rodent builds dams out of sticks and m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arching for more than an hour the scouts often lost their form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nday October 13 2008 was my grandparents’ golden wedding anniversar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y oldest sister Kate sent a postcard from Tokyo Jap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Picture 35" descr=""/>
          <p:cNvPicPr/>
          <p:nvPr/>
        </p:nvPicPr>
        <p:blipFill>
          <a:blip r:embed="rId2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8"/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Rectangle 39"/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34"/>
          <p:cNvSpPr/>
          <p:nvPr/>
        </p:nvSpPr>
        <p:spPr>
          <a:xfrm>
            <a:off x="528480" y="1297080"/>
            <a:ext cx="80694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dd commas where necessary in the following senten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squirrel ran over the lawn up the tree and onto a high bran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beaver a rodent builds dams out of sticks and m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arching for more than an hour the scouts often lost their form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nday October 13 2008 was my grandparents’ golden wedding anniversar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y oldest sister Kate sent a postcard from Tokyo Jap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4853160" y="175752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6340320" y="174960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5033880" y="29685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2978280" y="44910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3462480" y="36702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355840" y="24940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3552840" y="25034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1" name="Picture 28" descr=""/>
          <p:cNvPicPr/>
          <p:nvPr/>
        </p:nvPicPr>
        <p:blipFill>
          <a:blip r:embed="rId2"/>
          <a:stretch/>
        </p:blipFill>
        <p:spPr>
          <a:xfrm>
            <a:off x="8315280" y="2714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9" descr=""/>
          <p:cNvPicPr/>
          <p:nvPr/>
        </p:nvPicPr>
        <p:blipFill>
          <a:blip r:embed="rId3"/>
          <a:stretch/>
        </p:blipFill>
        <p:spPr>
          <a:xfrm>
            <a:off x="3251160" y="3425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0" descr=""/>
          <p:cNvPicPr/>
          <p:nvPr/>
        </p:nvPicPr>
        <p:blipFill>
          <a:blip r:embed="rId4"/>
          <a:stretch/>
        </p:blipFill>
        <p:spPr>
          <a:xfrm>
            <a:off x="4003560" y="42768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1" descr=""/>
          <p:cNvPicPr/>
          <p:nvPr/>
        </p:nvPicPr>
        <p:blipFill>
          <a:blip r:embed="rId5"/>
          <a:stretch/>
        </p:blipFill>
        <p:spPr>
          <a:xfrm>
            <a:off x="2757600" y="22575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35"/>
          <p:cNvSpPr/>
          <p:nvPr/>
        </p:nvSpPr>
        <p:spPr>
          <a:xfrm>
            <a:off x="4203720" y="36910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3656160" y="44798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1924200" y="36734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7224840" y="4505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546120" y="275256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1" descr="3199638-1525x2288"/>
          <p:cNvPicPr/>
          <p:nvPr/>
        </p:nvPicPr>
        <p:blipFill>
          <a:blip r:embed="rId2"/>
          <a:stretch/>
        </p:blipFill>
        <p:spPr>
          <a:xfrm>
            <a:off x="2732040" y="3683160"/>
            <a:ext cx="3317760" cy="2211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509760" y="2567160"/>
            <a:ext cx="7878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Please let me know when the barbecue will begin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who will be there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and when it will be ov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686040" y="2954160"/>
            <a:ext cx="4408560" cy="18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627120" y="3335400"/>
            <a:ext cx="25686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4145040" y="3322800"/>
            <a:ext cx="2940120" cy="14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28480" y="1297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to separate items in a se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523800" y="196524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lauses in a s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69">
            <a:hlinkClick r:id="rId3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8480" y="1297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to separate items in a se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8515440" y="32367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5"/>
          <p:cNvSpPr/>
          <p:nvPr/>
        </p:nvSpPr>
        <p:spPr>
          <a:xfrm>
            <a:off x="533520" y="346068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wo or more adjectives before a no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2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01880" y="6162840"/>
            <a:ext cx="1622160" cy="339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2440" y="6141960"/>
            <a:ext cx="590400" cy="3398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533520" y="2441520"/>
            <a:ext cx="7819920" cy="825480"/>
            <a:chOff x="533520" y="2441520"/>
            <a:chExt cx="7819920" cy="825480"/>
          </a:xfrm>
        </p:grpSpPr>
        <p:sp>
          <p:nvSpPr>
            <p:cNvPr id="151" name="Text Box 27"/>
            <p:cNvSpPr/>
            <p:nvPr/>
          </p:nvSpPr>
          <p:spPr>
            <a:xfrm>
              <a:off x="533520" y="2441520"/>
              <a:ext cx="781992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The lights dimmed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0033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the curtain rose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0033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and the orchestra began to play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28"/>
            <p:cNvSpPr/>
            <p:nvPr/>
          </p:nvSpPr>
          <p:spPr>
            <a:xfrm>
              <a:off x="628560" y="2854440"/>
              <a:ext cx="28069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29"/>
            <p:cNvSpPr/>
            <p:nvPr/>
          </p:nvSpPr>
          <p:spPr>
            <a:xfrm>
              <a:off x="3622680" y="2854440"/>
              <a:ext cx="249408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Line 30"/>
            <p:cNvSpPr/>
            <p:nvPr/>
          </p:nvSpPr>
          <p:spPr>
            <a:xfrm>
              <a:off x="647640" y="3197160"/>
              <a:ext cx="35798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31"/>
            <p:cNvSpPr/>
            <p:nvPr/>
          </p:nvSpPr>
          <p:spPr>
            <a:xfrm>
              <a:off x="7008840" y="2854440"/>
              <a:ext cx="5364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Text Box 32"/>
          <p:cNvSpPr/>
          <p:nvPr/>
        </p:nvSpPr>
        <p:spPr>
          <a:xfrm>
            <a:off x="533520" y="193356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hort independent cla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Group 37"/>
          <p:cNvGrpSpPr/>
          <p:nvPr/>
        </p:nvGrpSpPr>
        <p:grpSpPr>
          <a:xfrm>
            <a:off x="533520" y="3989520"/>
            <a:ext cx="7824600" cy="825480"/>
            <a:chOff x="533520" y="3989520"/>
            <a:chExt cx="7824600" cy="825480"/>
          </a:xfrm>
        </p:grpSpPr>
        <p:sp>
          <p:nvSpPr>
            <p:cNvPr id="158" name="Text Box 14"/>
            <p:cNvSpPr/>
            <p:nvPr/>
          </p:nvSpPr>
          <p:spPr>
            <a:xfrm>
              <a:off x="533520" y="3989520"/>
              <a:ext cx="782460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On the doorstep she found a huge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beautiful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fragrant bouquet of flower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6"/>
            <p:cNvSpPr/>
            <p:nvPr/>
          </p:nvSpPr>
          <p:spPr>
            <a:xfrm>
              <a:off x="5146560" y="4440240"/>
              <a:ext cx="763560" cy="1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17"/>
            <p:cNvSpPr/>
            <p:nvPr/>
          </p:nvSpPr>
          <p:spPr>
            <a:xfrm>
              <a:off x="6107040" y="4427640"/>
              <a:ext cx="13255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533520" y="4751280"/>
              <a:ext cx="13255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2" name="Group 38"/>
          <p:cNvGrpSpPr/>
          <p:nvPr/>
        </p:nvGrpSpPr>
        <p:grpSpPr>
          <a:xfrm>
            <a:off x="523800" y="4937040"/>
            <a:ext cx="7824960" cy="459720"/>
            <a:chOff x="523800" y="4937040"/>
            <a:chExt cx="7824960" cy="459720"/>
          </a:xfrm>
        </p:grpSpPr>
        <p:sp>
          <p:nvSpPr>
            <p:cNvPr id="163" name="Text Box 33"/>
            <p:cNvSpPr/>
            <p:nvPr/>
          </p:nvSpPr>
          <p:spPr>
            <a:xfrm>
              <a:off x="523800" y="4937040"/>
              <a:ext cx="78249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Use a clean, glass measuring cup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35"/>
            <p:cNvSpPr/>
            <p:nvPr/>
          </p:nvSpPr>
          <p:spPr>
            <a:xfrm>
              <a:off x="1576440" y="5330880"/>
              <a:ext cx="8017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2593800" y="5326200"/>
              <a:ext cx="8017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Rectangle 40">
            <a:hlinkClick r:id="rId7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S39086"/>
          <p:cNvPicPr/>
          <p:nvPr/>
        </p:nvPicPr>
        <p:blipFill>
          <a:blip r:embed="rId2"/>
          <a:stretch/>
        </p:blipFill>
        <p:spPr>
          <a:xfrm>
            <a:off x="399960" y="2206800"/>
            <a:ext cx="2457720" cy="33778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uy Says...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203640" y="1359000"/>
            <a:ext cx="5162400" cy="2239920"/>
          </a:xfrm>
          <a:prstGeom prst="wedgeRoundRectCallout">
            <a:avLst>
              <a:gd name="adj1" fmla="val -67925"/>
              <a:gd name="adj2" fmla="val 45675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o determine if a comma should go between two adjectives, try switching the order of the adjectives. If the sentence does not make sense this way, do not use a com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076560" y="4451400"/>
            <a:ext cx="536400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ould “horned large owl” make sens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084480" y="3900600"/>
            <a:ext cx="53578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 large horned owl lives in that tre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084480" y="4971960"/>
            <a:ext cx="5359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No. Do not add a comma</a:t>
            </a:r>
            <a:r>
              <a:rPr b="0" i="1" lang="en-US" sz="2000" spc="-1" strike="noStrike">
                <a:solidFill>
                  <a:srgbClr val="ffff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17" descr=""/>
          <p:cNvPicPr/>
          <p:nvPr/>
        </p:nvPicPr>
        <p:blipFill>
          <a:blip r:embed="rId6"/>
          <a:stretch/>
        </p:blipFill>
        <p:spPr>
          <a:xfrm>
            <a:off x="8488440" y="3419640"/>
            <a:ext cx="133200" cy="8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7"/>
          <a:stretch/>
        </p:blipFill>
        <p:spPr>
          <a:xfrm>
            <a:off x="8529480" y="42321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"/>
          <p:cNvPicPr/>
          <p:nvPr/>
        </p:nvPicPr>
        <p:blipFill>
          <a:blip r:embed="rId8"/>
          <a:stretch/>
        </p:blipFill>
        <p:spPr>
          <a:xfrm>
            <a:off x="8529480" y="476424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528480" y="283680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finished my dinner brushed my teeth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ombed my hair and ran out the do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9760" y="3862440"/>
            <a:ext cx="7075440" cy="49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old diary had ragged yellowed p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33520" y="4530600"/>
            <a:ext cx="70387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chose the gift Mike wrapped it and Gina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gave it to Kel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28480" y="1297080"/>
            <a:ext cx="8064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2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0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3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32800" y="298944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32800" y="395460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3960" y="46641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36">
            <a:hlinkClick r:id="rId9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509760" y="2208240"/>
            <a:ext cx="7043400" cy="49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is project is fun easy fast and inexpensi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713720" y="2262240"/>
            <a:ext cx="1030320" cy="42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Tamesa Williams</dc:creator>
  <dc:description/>
  <dc:language>en-US</dc:language>
  <cp:lastModifiedBy>cfpms</cp:lastModifiedBy>
  <dcterms:modified xsi:type="dcterms:W3CDTF">2014-04-10T12:35:45Z</dcterms:modified>
  <cp:revision>562</cp:revision>
  <dc:subject/>
  <dc:title>Slide 1</dc:title>
</cp:coreProperties>
</file>